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E67-B932-4718-BCE6-DAC21DB3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436-2AFA-44CD-A696-C7A79943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00B-D3AB-4F56-B868-B6EFFA4E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822-324A-4933-99DB-CAACC459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D8F2-DEAD-4A52-9C4C-F5B204C8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387B-E6D2-43B8-B964-1C70A408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547E-4B96-4418-97D9-7BFB9CC4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437A-A381-4E29-97EB-E94D0B1B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DC40-9533-49ED-9B38-8A164117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6636-E4D6-4875-97B2-8B99B8D7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98BD-35E1-4ECA-BCC1-18ECF423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296-4F69-4DBC-8CCE-C52E7465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366F-8E07-4670-82CA-2878FF77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7171-AC6E-4BD2-B836-1EC1845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85E0-A0BE-452F-AB73-61EED84D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82B8-62D4-4C25-96A8-063C82E1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7442-BA61-4C9A-8AB1-03424646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54E-E42D-43D3-8786-C4A299B3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3B4-9E16-4A85-BDAD-3CF407E7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B5B-BE21-4DEE-B6E8-F7BCCC3E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492-8C89-4013-A9E8-B0D70B6E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361-8832-4F61-9628-D7A74EE7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632-E764-4C6E-B59A-1E425CDC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8FF-2798-4152-B1A7-A37BA792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9744-824A-436E-9E29-AB006E8E14F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95DD-AC6D-477D-9CDF-B79192D6D17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599840" y="2057400"/>
            <a:ext cx="65818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08366"/>
                </a:solidFill>
                <a:latin typeface="Times New Roman"/>
              </a:rPr>
              <a:t>Classifying </a:t>
            </a:r>
            <a:endParaRPr b="0" lang="en-US" sz="50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08366"/>
                </a:solidFill>
                <a:latin typeface="Times New Roman"/>
              </a:rPr>
              <a:t>Living Things</a:t>
            </a:r>
            <a:endParaRPr b="0" lang="en-US" sz="5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6858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C.  </a:t>
            </a: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Scientific Names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52480" y="1828800"/>
            <a:ext cx="6934320" cy="3964680"/>
            <a:chOff x="1752480" y="1828800"/>
            <a:chExt cx="6934320" cy="3964680"/>
          </a:xfrm>
        </p:grpSpPr>
        <p:sp>
          <p:nvSpPr>
            <p:cNvPr id="116" name=""/>
            <p:cNvSpPr/>
            <p:nvPr/>
          </p:nvSpPr>
          <p:spPr>
            <a:xfrm>
              <a:off x="1752480" y="1828800"/>
              <a:ext cx="662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1.  a unique two-word </a:t>
              </a:r>
              <a:r>
                <a:rPr b="1" lang="en-US" sz="4400" spc="-1" strike="noStrike" u="sng">
                  <a:solidFill>
                    <a:srgbClr val="402000"/>
                  </a:solidFill>
                  <a:uFillTx/>
                  <a:latin typeface="Times New Roman"/>
                </a:rPr>
                <a:t>Latin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5029200"/>
              <a:ext cx="556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same scientific name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4191120"/>
              <a:ext cx="6324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species cannot have the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429000"/>
              <a:ext cx="601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organism; two different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2320" y="2666880"/>
              <a:ext cx="586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2000"/>
                  </a:solidFill>
                  <a:latin typeface="Times New Roman"/>
                </a:rPr>
                <a:t>name assigned to each</a:t>
              </a:r>
              <a:endParaRPr b="0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2.  Carl Linnaeus developed the two-word system (binomial nomenclature) in the mid-1700s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cientific Names (continued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cientific Names (continued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76520" y="4724280"/>
            <a:ext cx="7238880" cy="1355760"/>
            <a:chOff x="1676520" y="4724280"/>
            <a:chExt cx="7238880" cy="1355760"/>
          </a:xfrm>
        </p:grpSpPr>
        <p:sp>
          <p:nvSpPr>
            <p:cNvPr id="125" name=""/>
            <p:cNvSpPr/>
            <p:nvPr/>
          </p:nvSpPr>
          <p:spPr>
            <a:xfrm>
              <a:off x="1676520" y="5410080"/>
              <a:ext cx="4952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(lower-case)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2480" y="4724280"/>
              <a:ext cx="71629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second word is the species name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143000" y="3276720"/>
            <a:ext cx="7924680" cy="1419840"/>
            <a:chOff x="1143000" y="3276720"/>
            <a:chExt cx="7924680" cy="1419840"/>
          </a:xfrm>
        </p:grpSpPr>
        <p:sp>
          <p:nvSpPr>
            <p:cNvPr id="128" name=""/>
            <p:cNvSpPr/>
            <p:nvPr/>
          </p:nvSpPr>
          <p:spPr>
            <a:xfrm>
              <a:off x="1752480" y="3962520"/>
              <a:ext cx="54864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(capitalized)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43000" y="3276720"/>
              <a:ext cx="79246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4. first word is the genus name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43000" y="1676520"/>
            <a:ext cx="7620120" cy="1431720"/>
            <a:chOff x="1143000" y="1676520"/>
            <a:chExt cx="7620120" cy="1431720"/>
          </a:xfrm>
        </p:grpSpPr>
        <p:sp>
          <p:nvSpPr>
            <p:cNvPr id="131" name=""/>
            <p:cNvSpPr/>
            <p:nvPr/>
          </p:nvSpPr>
          <p:spPr>
            <a:xfrm>
              <a:off x="1676520" y="2438280"/>
              <a:ext cx="53337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underlined)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1676520"/>
              <a:ext cx="76201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402000"/>
                  </a:solidFill>
                  <a:latin typeface="Times New Roman"/>
                </a:rPr>
                <a:t>3. Both words are in italics (or   </a:t>
              </a:r>
              <a:endParaRPr b="0" lang="en-US" sz="4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.  Examp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1.  Horse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Equus caballu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2.  Zebra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Equus burchellii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57800" y="2514600"/>
            <a:ext cx="3657600" cy="3066480"/>
            <a:chOff x="5257800" y="2514600"/>
            <a:chExt cx="3657600" cy="3066480"/>
          </a:xfrm>
        </p:grpSpPr>
        <p:sp>
          <p:nvSpPr>
            <p:cNvPr id="136" name=""/>
            <p:cNvSpPr/>
            <p:nvPr/>
          </p:nvSpPr>
          <p:spPr>
            <a:xfrm>
              <a:off x="5257800" y="2514600"/>
              <a:ext cx="1219320" cy="2819520"/>
            </a:xfrm>
            <a:custGeom>
              <a:avLst/>
              <a:gdLst>
                <a:gd name="textAreaLeft" fmla="*/ 0 w 1219320"/>
                <a:gd name="textAreaRight" fmla="*/ 440280 w 121932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9920" y="2819520"/>
              <a:ext cx="2895480" cy="27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cd3333"/>
                  </a:solidFill>
                  <a:latin typeface="Times New Roman"/>
                </a:rPr>
                <a:t>same genus; closely related; all taxa above are the same too</a:t>
              </a:r>
              <a:endParaRPr b="0" lang="en-US" sz="3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 (continued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3.  Hemlock (tree)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Tsuga canadensi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4.  Canadian Goose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Branta canadensi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715000" y="1600200"/>
            <a:ext cx="3048120" cy="4038480"/>
            <a:chOff x="5715000" y="1600200"/>
            <a:chExt cx="3048120" cy="4038480"/>
          </a:xfrm>
        </p:grpSpPr>
        <p:sp>
          <p:nvSpPr>
            <p:cNvPr id="141" name=""/>
            <p:cNvSpPr/>
            <p:nvPr/>
          </p:nvSpPr>
          <p:spPr>
            <a:xfrm>
              <a:off x="5715000" y="1905120"/>
              <a:ext cx="1219320" cy="3733560"/>
            </a:xfrm>
            <a:custGeom>
              <a:avLst/>
              <a:gdLst>
                <a:gd name="textAreaLeft" fmla="*/ 0 w 1219320"/>
                <a:gd name="textAreaRight" fmla="*/ 440280 w 1219320"/>
                <a:gd name="textAreaTop" fmla="*/ 97200 h 3733560"/>
                <a:gd name="textAreaBottom" fmla="*/ 3636360 h 37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5720" y="1600200"/>
              <a:ext cx="2057400" cy="38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cd3333"/>
                  </a:solidFill>
                  <a:latin typeface="Times New Roman"/>
                </a:rPr>
                <a:t>same species but different genus; not closely related</a:t>
              </a:r>
              <a:endParaRPr b="0" lang="en-US" sz="3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 (continued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5.  Jellyfish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Cyanea arctic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6.  Starfish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Ctenodiscus australi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943600" y="1981080"/>
            <a:ext cx="2895480" cy="3733920"/>
            <a:chOff x="5943600" y="1981080"/>
            <a:chExt cx="2895480" cy="3733920"/>
          </a:xfrm>
        </p:grpSpPr>
        <p:sp>
          <p:nvSpPr>
            <p:cNvPr id="146" name=""/>
            <p:cNvSpPr/>
            <p:nvPr/>
          </p:nvSpPr>
          <p:spPr>
            <a:xfrm>
              <a:off x="5943600" y="1981080"/>
              <a:ext cx="1219320" cy="3733920"/>
            </a:xfrm>
            <a:custGeom>
              <a:avLst/>
              <a:gdLst>
                <a:gd name="textAreaLeft" fmla="*/ 0 w 1219320"/>
                <a:gd name="textAreaRight" fmla="*/ 440280 w 12193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0280" y="2209680"/>
              <a:ext cx="1828800" cy="32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cd3333"/>
                  </a:solidFill>
                  <a:latin typeface="Times New Roman"/>
                </a:rPr>
                <a:t>similar common name; not closely related</a:t>
              </a:r>
              <a:endParaRPr b="0" lang="en-US" sz="3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.  Cladogram -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133720"/>
            <a:ext cx="7239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Diagram that shows derived characteristics (evolutionary innovations); important in understanding how one lineage branched from anoth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066680" y="457200"/>
            <a:ext cx="7601040" cy="5219640"/>
            <a:chOff x="1066680" y="457200"/>
            <a:chExt cx="7601040" cy="521964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066680" y="457200"/>
              <a:ext cx="7601040" cy="52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flipH="1" flipV="1">
              <a:off x="2349720" y="5193000"/>
              <a:ext cx="50760" cy="30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252600" y="4834440"/>
              <a:ext cx="88920" cy="27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257000" y="4519080"/>
              <a:ext cx="1015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5209920" y="4074120"/>
              <a:ext cx="8892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036120" y="3830400"/>
              <a:ext cx="8892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981080" y="55627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jaw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52578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lung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87692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dry ski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44956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hai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3333"/>
                </a:solidFill>
                <a:latin typeface="Times New Roman"/>
              </a:rPr>
              <a:t>no tai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cd3333"/>
                </a:solidFill>
                <a:latin typeface="Times New Roman"/>
              </a:rPr>
              <a:t>Taxonomy</a:t>
            </a: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 - the science of classifying living things; groups show evolutionary relationships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.  Taxonomic Hierarch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1.  Kingdom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2.  Phylum (phyla is plural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3.  Class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4.  Order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axonomic Hierarchy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5.  Family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6.  Genus (genera is plural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7.  Species - organisms that are able to interbreed with each other to produce </a:t>
            </a:r>
            <a:r>
              <a:rPr b="0" lang="en-US" sz="5000" spc="-1" strike="noStrike" u="sng">
                <a:solidFill>
                  <a:srgbClr val="402000"/>
                </a:solidFill>
                <a:uFillTx/>
                <a:latin typeface="Times New Roman"/>
              </a:rPr>
              <a:t>fertile</a:t>
            </a: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 offspring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Hint: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K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ing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hillip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ame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ver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F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or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G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ood </a:t>
            </a:r>
            <a:r>
              <a:rPr b="0" lang="en-US" sz="60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teak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05320" y="60948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Zebroid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Zebroid2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410000" cy="3854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33720" y="5562720"/>
            <a:ext cx="556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terile – horse and zebra do not belong to the same speci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ma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5029200" cy="3865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66880" y="685800"/>
            <a:ext cx="358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Cama (baby)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562720"/>
            <a:ext cx="556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terile – camel and llama do not belong to the same speci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liger3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867280" cy="3833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6094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2000"/>
                </a:solidFill>
                <a:latin typeface="Times New Roman"/>
              </a:rPr>
              <a:t>Liger</a:t>
            </a:r>
            <a:endParaRPr b="0" lang="en-US" sz="5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5562720"/>
            <a:ext cx="556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terile – lion and tiger do not belong to the same speci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 (human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676520"/>
            <a:ext cx="76201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2000"/>
                </a:solidFill>
                <a:latin typeface="Times New Roman"/>
              </a:rPr>
              <a:t>Kingdom- Animalia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362320"/>
            <a:ext cx="6705720" cy="533160"/>
          </a:xfrm>
          <a:prstGeom prst="rect">
            <a:avLst/>
          </a:prstGeom>
          <a:solidFill>
            <a:srgbClr val="ff66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Phylum- Chordat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3048120"/>
            <a:ext cx="586728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2000"/>
                </a:solidFill>
                <a:latin typeface="Times New Roman"/>
              </a:rPr>
              <a:t>Class- Mammalia</a:t>
            </a:r>
            <a:endParaRPr b="0" lang="en-US" sz="3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733920"/>
            <a:ext cx="518184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Order- Primat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4419720"/>
            <a:ext cx="4419360" cy="53316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Family- Hominidae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105520"/>
            <a:ext cx="3657600" cy="533160"/>
          </a:xfrm>
          <a:prstGeom prst="rect">
            <a:avLst/>
          </a:prstGeom>
          <a:solidFill>
            <a:srgbClr val="9a7f3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nus-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Hom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5791320"/>
            <a:ext cx="2743200" cy="533160"/>
          </a:xfrm>
          <a:prstGeom prst="rect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pecies- </a:t>
            </a:r>
            <a:r>
              <a:rPr b="0" i="1" lang="en-US" sz="3000" spc="-1" strike="noStrike">
                <a:solidFill>
                  <a:srgbClr val="402000"/>
                </a:solidFill>
                <a:latin typeface="Times New Roman"/>
              </a:rPr>
              <a:t>sapien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7:06:31Z</dcterms:created>
  <dc:creator>Type your name here</dc:creator>
  <dc:description/>
  <dc:language>en-US</dc:language>
  <cp:lastModifiedBy>stedforda</cp:lastModifiedBy>
  <cp:lastPrinted>2002-01-17T18:12:44Z</cp:lastPrinted>
  <dcterms:modified xsi:type="dcterms:W3CDTF">2008-03-25T11:33:51Z</dcterms:modified>
  <cp:revision>25</cp:revision>
  <dc:subject/>
  <dc:title>Chapter 17</dc:title>
</cp:coreProperties>
</file>